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881D-3324-4FA8-B782-54F5ED8FC7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833-B3CF-47F7-8C4A-64AD82B1236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DFA8-C776-4356-A18E-0E36B27EC3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D7D5-4827-46CD-9C62-3318B00F431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0B5-D6DB-4893-A910-B84BB8D9DC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867A-A367-445D-8286-6A118CBA4B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65A8-B654-4F21-BC14-C09A095CD6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DCE-A6DE-48AC-A567-0CE3B7DDF6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4C95-CC89-4445-9613-1AFFEFF63E4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5B5-3518-4F88-BC0C-24A5EEDD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EE1-25F8-4541-97AF-97F4CA69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2E4-F99E-4097-A3DC-C7065BEC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E89-E60B-4E0E-AFC6-220162CC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7239-A65E-4CD0-ABF6-D2FF6EFD4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72F3-5C66-41E2-AE61-1F272BB3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3ECE-1134-43A9-A0D6-AC983C7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86A4-DA0B-4E0E-8E6F-7F95DCC5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BC4E-23E9-4556-A2A9-B47DE66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DFA3-75A1-41A7-AE51-9B7BAFEB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C86B-9A81-4B85-9681-3AB56154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EF6-6C32-423D-9729-ED3A23B5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709A-326A-451E-9E92-F0F69B3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D602-FC3A-4DC4-9908-C445871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4CE7-13AA-47A0-8F8E-635E360A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9D33-078F-4356-AD1E-5FC59939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A15-FEA2-4A7A-91E7-F3FF642E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211A-ACF3-4DF9-81F3-039FE340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51E1-7410-4C79-BB52-F12C8F22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081FD-E60F-402B-A78A-EBFF904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8969-72C0-4D18-8F5A-8906C91C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80400-90B5-4494-B2A1-3E33F23D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84F-C7FD-4D84-A067-55378BC5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F1C8-6713-42B4-AFFE-26CB328B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53010-3DCE-4440-856C-90FED7DA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06CF4-D95A-4C8C-82F7-9AC4A21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E4ED-9985-4314-AC31-40C62FEF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70C6-FFE8-4FC8-9A06-48F02F0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5035F-5D67-41B8-B956-697C2CC6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90D4-0AD7-416B-947C-8A0CC64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A80F-818E-4E57-8CD1-CD81F40D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4375-ED4C-43E1-AA4E-63EF2937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C624C-17A8-4A46-A4B6-1F0EB4AD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43A-021F-45F6-A5E3-82CA33E6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9454-15CC-4F0F-B0D2-5FB79496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8C54-BDC6-42D6-94C6-EE37C196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EA6B-B24B-4B52-9126-6BD38C8B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7A7C-E96A-4DD7-BD9D-5A20182F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B6BF-49C6-4545-9AC3-60377B20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E794-50E6-4B51-9041-1AA14D9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8DA8-B16A-4DF5-9452-5358496F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FCC8-620C-48AC-8F57-E5A398AD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93F24-198C-4161-AE2C-36844757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4DBE-CABD-4C54-9198-B009FA8B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A8A-1B55-4BBC-8B08-5A3D54BA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778A-1675-4344-A798-CE590A8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0E70A-F5BE-4B8A-8BE9-A3ECC62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7022C-A276-4401-81F6-193A7CB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2D56-4602-44C5-ABE6-D3665E6B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2C59-F2B3-4128-82E6-BA9A7B4A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51938-0EF7-4F26-AC65-056AA4C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6CE65-7B1F-45AF-B91E-66FA52EB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4D63-CFAA-409B-BFC8-2647E18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AEEAD-0B0F-479A-9822-045041BE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52C2-7B63-48EC-85B5-ABA9987D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FD13-0BB4-4F14-A5C1-A72ECF98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CC16-3343-4131-A2CB-0DD57E10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AA99B-6091-43DA-B51C-425B545F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25CA-B392-4ABB-94E2-2AE6BF05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6F1DD-17F3-446C-8DF3-7C206103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D5FC-B205-41AE-9252-6489F996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4F712-C7FE-439A-B7F6-6E6444BC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AB206-B6E2-4E41-8F28-3A9F9A41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F135-B8ED-40FE-B729-4C27626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F991-8E0C-415A-889F-307195F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E652A-218C-4FF7-8BDD-96C69B1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265-27B3-4681-8AF3-D4A8EE7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D01FA-69AB-4F6D-BE33-E6BEBD59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2AA0F-45FA-456F-8EBD-60499162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A444-7BF0-4E52-BB24-48607049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41F-E4CA-4EAC-BD9E-DCF54FC7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AEB-1FFA-4868-835F-907DE76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D1AF-17A1-4725-A5AE-B357EEBEBD5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C93-96EC-4E10-9587-9BF9D185051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488-7D9C-4845-A2D1-EB43BCF62C8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390-07DC-4EA3-9D11-9EBE0997035F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F67F-DC21-4B31-8C82-7917589AD21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0FAB-E8BE-44F7-89E2-978AFB2EF0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43B-40BA-4276-A95B-6F22A2A1268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971F-39C2-408B-AE22-5F810FA26B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4161-41A4-4916-9E1C-607F602BE2E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F83-4E9C-4B68-86F6-4A6C1532F57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295E-0BA7-4742-8535-D29298C814F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531F-3AA8-4C69-918A-141F2F9980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BRIL/20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mai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334800" y="6286680"/>
            <a:ext cx="108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1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692280"/>
            <a:ext cx="1219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22320" y="6496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22320" y="1411200"/>
            <a:ext cx="121698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4882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0" y="1450800"/>
            <a:ext cx="1219212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36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47520" y="1346040"/>
            <a:ext cx="1214460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7520" y="648828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7520" y="1486080"/>
            <a:ext cx="12144600" cy="49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abril/2018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47520" y="648828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47520" y="1700280"/>
            <a:ext cx="12144600" cy="47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52560" y="1341360"/>
            <a:ext cx="121395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/2018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413000"/>
            <a:ext cx="12192120" cy="50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8 a abril/2018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abril/2018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64160"/>
            <a:ext cx="67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343160"/>
            <a:ext cx="1214424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abril/2017, março/2018 e abril/201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20520" y="6492960"/>
            <a:ext cx="88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47520" y="1125360"/>
            <a:ext cx="120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abril de 2018, a quantidade de benefícios previdenciários e acidentários emitidos pela Previdência aumentou 31,5%, passando de 22,8 milhões para 29,9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8 a 2017 (dezembro), 2018 (abr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468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680" y="1582560"/>
            <a:ext cx="12187440" cy="49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1 a 2018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abril de cada ano – Em R$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16532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71,88, na média de janeiro e abril de 2018, o que representou um crescimento de 10,5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0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3068640" y="5157720"/>
            <a:ext cx="349416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960" y="2349360"/>
            <a:ext cx="3527280" cy="2743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700280"/>
            <a:ext cx="12144240" cy="45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6334200"/>
            <a:ext cx="1214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0% dos benefícios pagos pelo INSS em abril/2018 possuíam o valor de até um salário mínimo, o que representa um contingente de 23,2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abril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520" y="1413000"/>
            <a:ext cx="12096720" cy="49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bril/2017, março/2018 e abril/2018, Acumulado Janeiro a abril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648828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0" y="1197000"/>
            <a:ext cx="121921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10 a 2018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abril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92240" y="64245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0" y="1177920"/>
            <a:ext cx="121921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-15840" y="1413000"/>
            <a:ext cx="1220796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8160" y="1341360"/>
            <a:ext cx="1210608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de abril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7640" y="635328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20520" y="1557360"/>
            <a:ext cx="121716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abril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936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0" y="1473120"/>
            <a:ext cx="1219212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abril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7640" y="6464160"/>
            <a:ext cx="57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1160" y="1341360"/>
            <a:ext cx="121809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5-30T21:35:08Z</dcterms:modified>
  <cp:revision>418</cp:revision>
  <dc:subject/>
  <dc:title>Demografia</dc:title>
</cp:coreProperties>
</file>